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DDAC-EFDB-4B8F-8BC0-0C5F4F93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FBCC-0738-4126-A677-C8A54D42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84C-7FD3-4612-960A-0FF6701D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4A2-54A5-4E2F-945C-83524630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8EA8-C512-484D-9A5E-0F815F25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0BCD-FC81-4CBC-B306-7487538C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BF90-83A4-4327-B035-2DADB327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3205-7BB8-4B8C-9FC5-CA3EEB5E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A4EF-6B93-48D0-AC9C-8C7EEB2B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3B4F-7323-4C70-9177-24F6EEB0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5E8E-4CDC-4526-8D7D-2889880B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0D5-E7EC-4596-9879-AA99BF37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387F-F454-4444-ABFA-2A3960D1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DA1E-9431-48BB-A771-C25124F2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93B3-F1F7-4E7C-8423-8A9DA674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DFF3-A157-449D-BADB-8B1124A1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FEBB-67BE-450D-8D9F-DACBC6A7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732D-2BEE-4CCE-9A0F-3B7DAB87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D9D-3853-4858-A479-41AA4EDE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E06A-6C4C-456D-8B6E-2BA27058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D37-B787-4F66-A2C4-B31691EA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987-967C-4C5B-ADB3-96F4790E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5A8D-5BC2-4160-9E88-962DE090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2B5C-2A21-472E-A58E-C6E3FCC1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1C3B-7012-4800-AF48-F802301443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311E-7FCB-427A-9B22-F033CC68C3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75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lar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stare at angri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: To look 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: stare at happ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glar - 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gl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: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243400" y="2332080"/>
            <a:ext cx="242568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heckou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 : To sign out and ta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: To 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14880" y="1676520"/>
          <a:ext cx="3265560" cy="212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14880" y="1676520"/>
                    <a:ext cx="3265560" cy="21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114880" y="3970440"/>
          <a:ext cx="3265560" cy="2128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14880" y="3970440"/>
                    <a:ext cx="3265560" cy="21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lab</cp:lastModifiedBy>
  <dcterms:modified xsi:type="dcterms:W3CDTF">2008-10-30T22:01:54Z</dcterms:modified>
  <cp:revision>9</cp:revision>
  <dc:subject/>
  <dc:title>PowerPoint Presentation</dc:title>
</cp:coreProperties>
</file>